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DF78-8FEE-49EB-A51C-015D823E30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BAD-861E-4F05-8696-DB001766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D85-3D2F-46A7-BA89-B867E7D9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040-35D7-4627-B74E-AE0EAEBA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4A9-D06E-437F-9684-3777D7B7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E776-E154-45D5-8259-046FEF9C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50A-A8B1-4018-A312-515EA39F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D52-52B8-4656-A6DC-65ED8996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03D-35DB-43E6-B4BC-92C54150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239-B045-42FB-A08F-AC399ABF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831-27BE-4133-BB08-8409E574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EBC-6253-40E7-9E26-FB443903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F6F9-B483-4D5F-9FA8-BDB473AA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AE5C-C4F8-47E4-9BE0-524C914DAC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28" descr="54833838nAzMGk_ph"/>
          <p:cNvPicPr/>
          <p:nvPr/>
        </p:nvPicPr>
        <p:blipFill>
          <a:blip r:embed="rId1"/>
          <a:stretch/>
        </p:blipFill>
        <p:spPr>
          <a:xfrm>
            <a:off x="60948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51043429TzJdSH_ph"/>
          <p:cNvPicPr/>
          <p:nvPr/>
        </p:nvPicPr>
        <p:blipFill>
          <a:blip r:embed="rId1"/>
          <a:stretch/>
        </p:blipFill>
        <p:spPr>
          <a:xfrm>
            <a:off x="762120" y="366840"/>
            <a:ext cx="7619760" cy="6124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nd sizes!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78580970BTaXaB_ph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029200" y="4800600"/>
            <a:ext cx="3276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y are called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39589844nfznzY_ph"/>
          <p:cNvPicPr/>
          <p:nvPr/>
        </p:nvPicPr>
        <p:blipFill>
          <a:blip r:embed="rId1"/>
          <a:stretch/>
        </p:blipFill>
        <p:spPr>
          <a:xfrm>
            <a:off x="609480" y="457200"/>
            <a:ext cx="790128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495680" y="46483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of these primary consumers hav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edator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animals that feed on the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51043689fkzMoZ_ph"/>
          <p:cNvPicPr/>
          <p:nvPr/>
        </p:nvPicPr>
        <p:blipFill>
          <a:blip r:embed="rId1"/>
          <a:stretch/>
        </p:blipFill>
        <p:spPr>
          <a:xfrm>
            <a:off x="762120" y="385920"/>
            <a:ext cx="7619760" cy="6086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3962520" y="838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84560156ttgWDR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257800" y="5105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78581179zBdQfy_ph"/>
          <p:cNvPicPr/>
          <p:nvPr/>
        </p:nvPicPr>
        <p:blipFill>
          <a:blip r:embed="rId1"/>
          <a:stretch/>
        </p:blipFill>
        <p:spPr>
          <a:xfrm>
            <a:off x="609480" y="3808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133720" y="5331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Animals that eat primary consumers are called secondary consum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phid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dy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54833379tvSXMh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105520" y="129528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This bird eats ladybirds</a:t>
            </a: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aphid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 rot="21379200">
            <a:off x="5528520" y="403200"/>
            <a:ext cx="3395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1160" y="1916280"/>
            <a:ext cx="7729560" cy="48891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990720" y="5638680"/>
            <a:ext cx="5181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91700292AaoMGU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066680" y="1295280"/>
            <a:ext cx="312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Times New Roman"/>
              </a:rPr>
              <a:t>What will eat the frog?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867280" y="4724280"/>
            <a:ext cx="2286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ffffff"/>
                </a:solidFill>
                <a:latin typeface="Times New Roman"/>
              </a:rPr>
              <a:t>What do you think the frog eats?</a:t>
            </a:r>
            <a:endParaRPr b="0" i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107013335MQlSLy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419720" y="1143000"/>
            <a:ext cx="3581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33520" y="380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609480" y="3808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1"/>
          <p:cNvSpPr/>
          <p:nvPr/>
        </p:nvSpPr>
        <p:spPr>
          <a:xfrm>
            <a:off x="152280" y="137160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5257800" y="2286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487692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6"/>
          <a:stretch/>
        </p:blipFill>
        <p:spPr>
          <a:xfrm>
            <a:off x="62485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7"/>
          <a:stretch/>
        </p:blipFill>
        <p:spPr>
          <a:xfrm>
            <a:off x="3809880" y="57913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8"/>
          <a:stretch/>
        </p:blipFill>
        <p:spPr>
          <a:xfrm>
            <a:off x="5029200" y="5989680"/>
            <a:ext cx="133668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4"/>
          <p:cNvSpPr/>
          <p:nvPr/>
        </p:nvSpPr>
        <p:spPr>
          <a:xfrm>
            <a:off x="6103800" y="26668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7391520" y="5715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7543800" y="53341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4"/>
          <a:stretch/>
        </p:blipFill>
        <p:spPr>
          <a:xfrm>
            <a:off x="64771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5"/>
          <a:stretch/>
        </p:blipFill>
        <p:spPr>
          <a:xfrm>
            <a:off x="434340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6"/>
          <a:stretch/>
        </p:blipFill>
        <p:spPr>
          <a:xfrm>
            <a:off x="5562720" y="54864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7"/>
          <a:stretch/>
        </p:blipFill>
        <p:spPr>
          <a:xfrm>
            <a:off x="1143000" y="1219320"/>
            <a:ext cx="6878520" cy="4273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7010280" y="33526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4" descr=""/>
          <p:cNvPicPr/>
          <p:nvPr/>
        </p:nvPicPr>
        <p:blipFill>
          <a:blip r:embed="rId8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6878880" cy="42735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5867280" y="50292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3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609480" y="3049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027"/>
          <p:cNvSpPr/>
          <p:nvPr/>
        </p:nvSpPr>
        <p:spPr>
          <a:xfrm>
            <a:off x="2556000" y="2349360"/>
            <a:ext cx="6337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All food chains start with ENERGY from the sun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80880" y="30492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120" y="1143000"/>
            <a:ext cx="76197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Because plants </a:t>
            </a:r>
            <a:r>
              <a:rPr b="1" i="1" lang="en-GB" sz="33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 their own food, they are called ‘Producers’</a:t>
            </a:r>
            <a:endParaRPr b="0" i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39589895mpnisC_ph"/>
          <p:cNvPicPr/>
          <p:nvPr/>
        </p:nvPicPr>
        <p:blipFill>
          <a:blip r:embed="rId1"/>
          <a:stretch/>
        </p:blipFill>
        <p:spPr>
          <a:xfrm>
            <a:off x="776160" y="588960"/>
            <a:ext cx="7589880" cy="5680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2:42:39Z</dcterms:created>
  <dc:creator>WBC</dc:creator>
  <dc:description/>
  <dc:language>en-US</dc:language>
  <cp:lastModifiedBy>LEGION2</cp:lastModifiedBy>
  <dcterms:modified xsi:type="dcterms:W3CDTF">2015-12-15T09:28:54Z</dcterms:modified>
  <cp:revision>52</cp:revision>
  <dc:subject/>
  <dc:title>Feeding Relationships</dc:title>
</cp:coreProperties>
</file>